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428-E008-4185-8189-4418CFC3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018-52DA-4DF0-AC0A-49B1A5F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D48-48BB-4CD9-81EC-0303006F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5B0-381D-49B0-8105-5DAAC2D6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364-3196-46E5-87C0-A7258DD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237-789E-4A43-B3BF-B41A67B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691-B6F9-4BDD-98F1-28535105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83F-C41C-4E74-B89C-0475B74F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DCE-1ED6-407C-9431-AB807F5E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7F1-BEA9-41C2-83A8-E57E9DD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3CC-9FFB-4C8A-90FB-6E7224E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262-DE6B-4F1E-994C-45C5831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700-EBFB-48F8-81DC-7C70D5AE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pelling Activities - Sp 201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y Dr. Tim Fie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322200"/>
            <a:ext cx="4340160" cy="703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24600" y="928800"/>
            <a:ext cx="4716360" cy="781560"/>
          </a:xfrm>
          <a:prstGeom prst="rect">
            <a:avLst/>
          </a:prstGeom>
          <a:solidFill>
            <a:srgbClr val="9fc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are examples of Elkonin Box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45080" y="2354400"/>
            <a:ext cx="2303640" cy="390960"/>
          </a:xfrm>
          <a:prstGeom prst="rect">
            <a:avLst/>
          </a:prstGeom>
          <a:solidFill>
            <a:srgbClr val="3d8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ly Kooim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71840" y="1819440"/>
            <a:ext cx="5016240" cy="529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0" y="3949560"/>
            <a:ext cx="2278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ttle, Kayl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7960" y="2878200"/>
            <a:ext cx="9144000" cy="318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82640" y="6696000"/>
            <a:ext cx="2892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der, Katelyn 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960" y="2844720"/>
            <a:ext cx="9144000" cy="380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95800" y="6807240"/>
            <a:ext cx="4273560" cy="390960"/>
          </a:xfrm>
          <a:prstGeom prst="rect">
            <a:avLst/>
          </a:prstGeom>
          <a:solidFill>
            <a:srgbClr val="c27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randa Neugebaue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7160" y="203040"/>
            <a:ext cx="8294760" cy="535680"/>
          </a:xfrm>
          <a:prstGeom prst="rect">
            <a:avLst/>
          </a:prstGeom>
          <a:solidFill>
            <a:srgbClr val="f1c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rrange and Scramb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00" y="1219320"/>
            <a:ext cx="9612360" cy="117216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idea a lot. I have seen some schools use it. I would start with groups of students until they understood what they were doing. Then I would make them go into partner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7960" y="252900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84400" y="7002360"/>
            <a:ext cx="3271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livier, Kari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1520" y="3149640"/>
            <a:ext cx="8380440" cy="319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62880" y="6400800"/>
            <a:ext cx="2579760" cy="390960"/>
          </a:xfrm>
          <a:prstGeom prst="rect">
            <a:avLst/>
          </a:prstGeom>
          <a:solidFill>
            <a:srgbClr val="d5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isha Schra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680" y="304920"/>
            <a:ext cx="4640400" cy="622800"/>
          </a:xfrm>
          <a:prstGeom prst="rect">
            <a:avLst/>
          </a:prstGeom>
          <a:solidFill>
            <a:srgbClr val="ea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ching Wor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6280" y="1015920"/>
            <a:ext cx="5204160" cy="1953360"/>
          </a:xfrm>
          <a:prstGeom prst="rect">
            <a:avLst/>
          </a:prstGeom>
          <a:solidFill>
            <a:srgbClr val="c27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good for both lower and elementary students because making reviewing spelling words a game will be enjoyable for stud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960" y="2317680"/>
            <a:ext cx="9144000" cy="430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84440" y="6603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ompson, Deidra 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960" y="2581200"/>
            <a:ext cx="9144000" cy="378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89360" y="6603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llman, Rachel F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3040" y="1625760"/>
            <a:ext cx="8136000" cy="315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7680" y="101520"/>
            <a:ext cx="7421400" cy="767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pelling for Memor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5160" y="611280"/>
            <a:ext cx="3311640" cy="390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phanie Torkels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6120" y="4978440"/>
            <a:ext cx="6730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 think that this activity would be great for spellers that struggle. They can think of ways to tie that word to another part to help spell it correctly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79800" y="1819440"/>
            <a:ext cx="4000320" cy="530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00" y="5892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hlers, Gabrielle 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1520" y="1117440"/>
            <a:ext cx="9864720" cy="291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2548080" cy="39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. Tim Fie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7000" y="203040"/>
            <a:ext cx="6619680" cy="76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Omitted Letter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8760" y="4470480"/>
            <a:ext cx="9826560" cy="7815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fine for beginners in spelling. I would use this if I had time to create it, but time would be factor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25760" y="1625760"/>
            <a:ext cx="6964200" cy="3485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57240" y="7112160"/>
            <a:ext cx="2394000" cy="390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ther Be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85960" y="304920"/>
            <a:ext cx="5040360" cy="138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ctionary Pract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8160" y="5384880"/>
            <a:ext cx="5203800" cy="195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activity would be good for students who need to practice their dictionary skills. I would use this activity to introduce new vocabulary word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7960" y="2803680"/>
            <a:ext cx="9144000" cy="333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8840" y="629928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kett, Nicol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7960" y="3544920"/>
            <a:ext cx="9144000" cy="185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1880" y="6197760"/>
            <a:ext cx="32706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tensen, Tamara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960" y="29732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95800" y="629928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ston, Elizabe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9760" y="1819440"/>
            <a:ext cx="6604200" cy="542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80" y="5486400"/>
            <a:ext cx="198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hlers, Gabrielle 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7440" y="1219320"/>
            <a:ext cx="7864560" cy="358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57240" y="6705720"/>
            <a:ext cx="1373400" cy="78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ther Be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5960" y="101520"/>
            <a:ext cx="5200920" cy="69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dden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240" y="5181480"/>
            <a:ext cx="5203800" cy="19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a good activity for student who struggle with letter sequencing. I would use this at the beginning of a spelling uni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82800" y="1819440"/>
            <a:ext cx="6394320" cy="529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80" y="5079960"/>
            <a:ext cx="198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kett, Nicol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960" y="2581200"/>
            <a:ext cx="9144000" cy="37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71560" y="6603840"/>
            <a:ext cx="465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tensen, Tamara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2857680"/>
            <a:ext cx="914400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81040" y="6500880"/>
            <a:ext cx="39657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ston, Elizabeth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89360" y="1819440"/>
            <a:ext cx="4381560" cy="529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54120" y="4978440"/>
            <a:ext cx="1984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bbe, Jacquelin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3471840"/>
            <a:ext cx="8265960" cy="302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06800" y="7027920"/>
            <a:ext cx="2503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ooiman, Kell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1880" y="220680"/>
            <a:ext cx="3024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konin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2080" y="1643040"/>
            <a:ext cx="8183520" cy="156276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really like this activity.  It allows students to play around with the different sounds that they hear to create words.  I would definately use this activity in my classroo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